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CCB-FD70-475A-AF2C-3D2DCE30E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353A-BFEA-418E-A4DE-FBACD1C90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A26-43F5-4DCA-91BC-C8F1C06B06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7397-4F64-4EE1-89BE-58198E4C4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8D78-4430-47D2-A799-41F0DE059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327-7AEC-4908-9BFF-BCD0C42D7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0F2-46FC-4F50-86EF-E8C450867A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CC7A-A64E-43A9-B69B-46FA8E5802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73B-A40C-4F9D-83A5-09E5A5F5C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F69B-242E-43D9-A5AB-CB244772A1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A881-BD6F-4BFE-A3BD-A05909BDB6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F4FC-80FA-4B61-8379-0C86BFD50B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01B3-2B7F-438A-B06A-DD937DEF4E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18E1-BF96-466F-85A1-8CC0B0A736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555C-0CFC-46A9-9543-95824F592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DE0D-DAAD-4F32-BDAF-86C2B5EA3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840-EB63-4432-927E-F59C1880D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160-0E46-406F-8A2C-343C7F179C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0105-AB9E-4C9D-81A5-A074112A69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2C8-98E4-4F46-BF2F-4CE72BF412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7DFD-44BA-438C-9D6F-295889124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FA76-39E8-4A40-80DB-E593B77DE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E74F-B983-4615-858A-6C62D26E8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FFE-5A1A-45BA-A1D5-8557565CF3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E1B-4F01-45E2-8FA2-A8881DE00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7B5C-0AEC-4FCA-8833-8CA8F237EF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CED-66C7-4159-A96F-8AA267FF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D80-A041-4DA0-85FD-0E0A1730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3B8-70C3-4F9D-AFD3-61C60955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25A-C42A-47DD-96D0-A460DFB9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162-0930-46B6-8406-28FC7613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B22-C355-4C47-817B-EB0F80A7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4E8-7EA4-440A-A039-33A3D1D3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015-7CCA-45BB-AD98-158270FB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F60-B819-4D7E-BFD7-F868D4B9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501-8CD2-44F9-8BDD-4A365F5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E6E-647E-4A5F-BADD-AE8A357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9B6-454E-4A0C-B5C5-51E24F93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0F41-315D-43DB-B449-1F15F41C62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j.gov/education/njpep/assessment/hspa/hspa_math/index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the HSPA??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HSPA (March 2007) the raw points necessary to achieve “proficient” was about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en-ended items on the HSPA have a rubric.  You can receive a 3, 2,1, or 0 for your work on each open ended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points – Everything correct (a minor error is sometimes accep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oints – Something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point – Something cor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 points – Nothing cor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 the HSPA the same as the SAT?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differ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on the SAT are ordered from easiest to hardest.  On the HSPA they are not. You could have the easiest question last, so don’t stop when you get to a hard question and give up.  Keep on trying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T penalizes for guessing, but the HSPA does no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 multiple choice questions have 5 choices, the HSPA only has 4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Hint: Narrow down your choic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 how should you approach each problem??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rea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i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blem, including the answer choices if it is multiple ch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, ask yourself if you can do the problem.  Your answer should be Yes (Y), No (N) or Maybe (M). Put this letter next to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r answer is y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a Y next to the problem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he problem out, check your answer, and mark the answer on your answer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r answer is n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, no matter how long you work on the problem, you feel like you will never be able to work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an N next to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best answer that you can, mark it on your answer document, and move to the next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r answer is mayb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an M next to the probl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s point, continue on to the next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test, come back and work on each question that has an M next 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uble Check Before Time is Call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hat you have an answer for each and every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cludes both multiple choice and open ended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o approach Open Ended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o read the entire question before beginning work on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not be able to answer every part of the question, but answer the parts that you can (might not be part A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SPA - Over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SPA  is the High School Proficiency Assessment that is given to juniors in New Jersey’s  public sch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s are required by federal law to use tests as a way of determining the performance levels of  sch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ests are designed to assess how well students are learning the knowledge and skills called for by New Jersey’s stand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ng the HSPA (or SRA) is a graduation requ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maybe the question has 3 parts, A, B, and C.  You didn’t know how to do parts A or B, but you know that you could get the answer to part C by adding the answers for A and B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to part C, state that to get the answer you would add the answers from A and B.  That would get you some poi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slide shows an example of an open ended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out some paper and try it yourself then we will look at some other student responses so that you can see how you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15627" t="47141" r="2858" b="4036"/>
          <a:stretch/>
        </p:blipFill>
        <p:spPr>
          <a:xfrm>
            <a:off x="0" y="0"/>
            <a:ext cx="915984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15556" t="46668" r="14268" b="5215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5720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aper would receive a score of 3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 has correct answers to every part and the work is explained clear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0" t="14286" r="57780" b="5714"/>
          <a:stretch/>
        </p:blipFill>
        <p:spPr>
          <a:xfrm>
            <a:off x="3048120" y="304920"/>
            <a:ext cx="5790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0" t="23573" r="59822" b="41075"/>
          <a:stretch/>
        </p:blipFill>
        <p:spPr>
          <a:xfrm>
            <a:off x="533520" y="228600"/>
            <a:ext cx="7659720" cy="3932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457200" y="44956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response would receive a score of 2, because it has something wrong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art d, this student said that n= the sum of the row times 2 (n=28) and it should state that the sum of the line equals 2 to the nth power or sum=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response would receiv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, because although it has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T wrong, it does ha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hing right.  The tabl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b is correct.  The oth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s (a, c, and d) are 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r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0" t="21908" r="67223" b="14286"/>
          <a:stretch/>
        </p:blipFill>
        <p:spPr>
          <a:xfrm>
            <a:off x="457200" y="304920"/>
            <a:ext cx="4495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30492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is response would receive a 0 (zero).  Although we can’t tell which part the student is trying to answer, this isn’t correct for any of the parts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Remember, something has to be correct for you to receive points.!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t’s the QUALITY not the QUANTITY of work that gets the points!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21890" r="79465" b="46128"/>
          <a:stretch/>
        </p:blipFill>
        <p:spPr>
          <a:xfrm>
            <a:off x="533520" y="304920"/>
            <a:ext cx="43275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re is a website with additional practice that you can check out at hom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nj.gov/education/njpep/assessment/hspa/hspa_math/index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SPA assesses 4 mathematic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1 – Number and Numeric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S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ical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2 – Geometry &amp;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ic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ing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es of 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s of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ing Geometr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3 – Patterns and Alge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terns and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4 – Data Analysis, Probability, and Discrete Mathema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Analysis (Statist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rete Mathematics – systematic listing and 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rete Mathematics – vertex-edge graphs and algorith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SPA has two major types of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choice – the students are asked to choose one correct answer from amo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o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type of question is the open-ended ques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will answer these questions with short or long written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may also present their response using diagrams, graphics, and/or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SPA contains a total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ltiple choice i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pen-ended i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multiple choice item is worth 1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open-ended item is worth 3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38:04Z</dcterms:created>
  <dc:creator>Timothy J Giordano</dc:creator>
  <dc:description/>
  <dc:language>en-US</dc:language>
  <cp:lastModifiedBy>mdodd</cp:lastModifiedBy>
  <dcterms:modified xsi:type="dcterms:W3CDTF">2009-02-02T19:38:20Z</dcterms:modified>
  <cp:revision>62</cp:revision>
  <dc:subject/>
  <dc:title>New Jersey Assessment of Skills and Knowledge (NJ ASK)</dc:title>
</cp:coreProperties>
</file>